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8F86-4B0E-4407-B0AE-3FDB949BD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DF22-8FCD-46C8-999B-0E8F0F6D0F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This could be written as M = 25a + 5t +25p, where M is measured in c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CB63-8E83-4138-BCE2-23B396D257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orrowing 6000 at 3.5% interest for 60 mon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 = 6000(0.035)(1 + 0.035)^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 + 0.035)^60 –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= $240.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(5600, .00825, 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 = 5600(0.0825)(1 + 0.0825)^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 + 0.0825)^48 –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= 421.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AB47-EAB7-4FC7-96CF-79DE6984AD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x, different y not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1B1-E4CD-4702-8951-1E23707A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D8D-9742-48FE-BA82-51BB9E4B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47E-F697-4E54-A8DE-41ECB590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333-EC1E-4A2B-9D16-2C71888D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AA0D-58EF-46FF-9ECD-E2F4C8FB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3833-71CB-4C4E-909A-B4E8ACEF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4590-D9F1-418A-A787-91894CEA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DEF3-FC39-4363-9F59-F38E547E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5B0C-D218-432B-82BA-CDDC9C6E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0FDA-BEBB-4F01-B0E5-BE64DB49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82D3-6935-4687-A8CB-2EAF60F7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01B-CB70-4270-9616-BB80E131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3E9C-D3DD-4BFC-9D6D-77C126F5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16F4-CA85-4C38-AAF4-85999372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3858-1877-482E-93B2-F8A6FB14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57B3-FAA5-4601-8088-D1854EAB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0255-2CFA-47BE-8C67-96971F5A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3D6D0-D3CC-4DB4-9DC7-7561BEE7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F86D-914D-430D-8E08-F554AF65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D6551-EDB1-474B-8D7E-340DB698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DB5B-E6AE-4C46-B12E-1EE21F3A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AC87-FA0F-4A1B-9A2D-864DFF99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7CC-AF21-4C4D-9D2A-F619C3C9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D1B8-3F08-4555-B2B5-5E7F5A8C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C58B-AED8-442D-B47B-99BB1D93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B8E7-3A09-413F-8F13-243699F9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9F81-8C73-4A7B-9999-C83D6A82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7DD4-CE8B-4A2D-AF2E-71031CD9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468C-C5E8-4E2D-8780-FC43C60F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F6451-59E8-45AE-A726-5378CE33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512C6-B137-469F-8FD0-19D589D5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7ADB2-7FFA-4C0C-96F1-AA9B66B7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F1944-7AD8-4361-B9D9-D084484F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B6E-B38F-47A1-9B0C-763ED829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1670F-0117-4A42-894B-264952F3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825D-5A24-4D57-B911-A646A69B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B6452-73D6-40FC-A5C3-802F5CEB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5FA77-A1C7-4FBD-ADB2-46D52604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4E27-8035-4A17-8618-C704B00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10A0A-C475-45DD-AC2F-6B5F4D2E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108C-E2C1-423D-A6E7-5F77BCB9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54D03-DF34-4BF8-A767-DA3A86F5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DC79-FEED-40A1-9A52-4EBDC505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8DEA5-DF70-4FB7-8906-D060AE04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26B-6095-4C68-B2A7-271AF960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F3F95-808A-41DA-BC9C-0FDEEEC3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BDFFE-427A-41A4-87A0-11287F12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1FB38-55AF-4429-B2F0-732026DD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D8BC6-0789-4F69-9B21-AF6D7DAF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4E65E-AE02-429F-891B-D3E8DE7B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C3DE4-AD6E-4662-A1B4-9CCCBFFC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C4481-754F-407D-86B7-AAE86C56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89BC2-092F-48C6-9314-33880C52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A08CF-387A-4602-A6EE-8548E700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776F4-A255-4502-9177-94623876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55D-4366-41BF-9A86-4C3BDCC6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C609C-05AA-49F7-8746-0006E815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DF20D-90F6-406C-8005-04598F19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E1BCD-4CDA-4D41-B01C-961CC5FD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37828-491C-48CA-B2E4-584C9751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C983D-2B7E-425E-8648-2783584D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905F6-27F3-44E5-92C8-148BE03B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7305D-C936-4718-B2E8-8DB63530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734E9-B08F-4802-AD6A-0CBC7BA2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30C3-7091-4701-899A-111F390A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A7101-CAED-4D0B-8BA1-AD19E1D6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132-00B2-4189-8E95-DB6D268A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99258-6839-45C4-935B-99FDD104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CC3D6-3238-4EFC-BC03-738E06A0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953C7-86C0-4627-BD17-7DC92CEB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D058F-4136-4B17-8982-72BB3073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D9536-E795-45CA-9E40-676DFA55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5741A-B1F8-4FA5-9618-865035CF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416F0-8745-4119-A060-CEEBD260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C61B0-DA65-466C-841C-4888342A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AFBF1-062D-4939-859F-C63706FB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6B5A2-505B-4BE3-AE9B-ED22FD0A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1A5-1EBC-4576-A1EE-C788B4D8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A26CB-F9D1-45D5-8DD4-3A69F84F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4132E-2FCE-4B44-A179-6328CE95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5B069-8181-41E4-A618-E22B6311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BD275-0C95-49D4-B72A-69A2C696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55751-726B-4487-9F03-52C5ECAB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11D8E-472A-4291-83C3-28254972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64AE0-9BAF-48C0-A371-44DDAADA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3D82F-0124-463F-A137-AC795F35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D6B92-6E8A-4882-8F2B-06CE68D3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C6BFE-9420-47FE-9605-797B1064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21E-FDBB-4638-9D80-F418CD6B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48945-881E-4081-9A77-91C54C9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4A9C7-0FDC-4546-8435-1B6C1FA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2CD05-661A-4B19-A32E-946B8711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8E37E-3DC0-41DF-A890-1B69CD87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71B83-FBCA-4DFB-B873-B9817E01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FD60D-AF6A-49C6-A454-862067F0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9735A-0C05-48C0-80CF-3E4E0F91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D60A-06C5-4A4E-8D85-E3CB362F33E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1DF0-C2D4-464C-8DC2-3D46F9A4968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6D8A-1FB9-4F28-BDBC-E23CFF86B3A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483A-E873-4AA0-A66E-8D8042FC32C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F2DF-15E1-434B-AC06-B9958587A8A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BBBC-5628-4630-9724-41BE024FDD9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4027-A82B-4596-BACB-90A62250FCC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D347-04D9-4617-9353-C1CCA0AFCB2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hapter 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termining Func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termine if the relation is a fun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3, 2), (4, 2), (5, 2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1, 2), (-1, 3), (1, 7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ertical Line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the vertical line test to determine whether each graph represents a fun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1" name="Freeform 4" descr=""/>
          <p:cNvPicPr/>
          <p:nvPr/>
        </p:nvPicPr>
        <p:blipFill>
          <a:blip r:embed="rId1"/>
          <a:stretch/>
        </p:blipFill>
        <p:spPr>
          <a:xfrm>
            <a:off x="890640" y="2889360"/>
            <a:ext cx="804960" cy="1384200"/>
          </a:xfrm>
          <a:prstGeom prst="rect">
            <a:avLst/>
          </a:prstGeom>
          <a:ln w="0">
            <a:noFill/>
          </a:ln>
        </p:spPr>
      </p:pic>
      <p:pic>
        <p:nvPicPr>
          <p:cNvPr id="452" name="Freeform 5" descr=""/>
          <p:cNvPicPr/>
          <p:nvPr/>
        </p:nvPicPr>
        <p:blipFill>
          <a:blip r:embed="rId2"/>
          <a:stretch/>
        </p:blipFill>
        <p:spPr>
          <a:xfrm>
            <a:off x="2498760" y="3097080"/>
            <a:ext cx="1469880" cy="968400"/>
          </a:xfrm>
          <a:prstGeom prst="rect">
            <a:avLst/>
          </a:prstGeom>
          <a:ln w="0">
            <a:noFill/>
          </a:ln>
        </p:spPr>
      </p:pic>
      <p:pic>
        <p:nvPicPr>
          <p:cNvPr id="453" name="Line 7" descr=""/>
          <p:cNvPicPr/>
          <p:nvPr/>
        </p:nvPicPr>
        <p:blipFill>
          <a:blip r:embed="rId3"/>
          <a:stretch/>
        </p:blipFill>
        <p:spPr>
          <a:xfrm>
            <a:off x="4632480" y="2951280"/>
            <a:ext cx="1628640" cy="1182600"/>
          </a:xfrm>
          <a:prstGeom prst="rect">
            <a:avLst/>
          </a:prstGeom>
          <a:ln w="0">
            <a:noFill/>
          </a:ln>
        </p:spPr>
      </p:pic>
      <p:pic>
        <p:nvPicPr>
          <p:cNvPr id="454" name="Freeform 8" descr=""/>
          <p:cNvPicPr/>
          <p:nvPr/>
        </p:nvPicPr>
        <p:blipFill>
          <a:blip r:embed="rId4"/>
          <a:stretch/>
        </p:blipFill>
        <p:spPr>
          <a:xfrm>
            <a:off x="7059600" y="2798640"/>
            <a:ext cx="87156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3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.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s it a function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st verify that each input value corresponds to a single output valu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lop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Slope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= rate of change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=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rbel"/>
                <a:ea typeface="宋体"/>
              </a:rPr>
              <a:t>change in 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change in x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=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rbel"/>
                <a:ea typeface="宋体"/>
              </a:rPr>
              <a:t>∆y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   ∆x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=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rbel"/>
                <a:ea typeface="宋体"/>
              </a:rPr>
              <a:t>Rise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Ru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2438280" y="1523880"/>
            <a:ext cx="2971800" cy="2286000"/>
          </a:xfrm>
          <a:prstGeom prst="rect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lope- given poi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For points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slope =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A positive slope goes up as you read the graph from left to right. (A negative slope goes down as you read the graph from left to right.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As the absolute value of the slope gets larger, the steepness of the incline increase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464" name="Object 4"/>
          <p:cNvGraphicFramePr/>
          <p:nvPr/>
        </p:nvGraphicFramePr>
        <p:xfrm>
          <a:off x="2514600" y="2344680"/>
          <a:ext cx="12193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44680"/>
                    <a:ext cx="12193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5"/>
          <p:cNvGraphicFramePr/>
          <p:nvPr/>
        </p:nvGraphicFramePr>
        <p:xfrm>
          <a:off x="2590920" y="1752480"/>
          <a:ext cx="259056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752480"/>
                    <a:ext cx="2590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Calculate the slope between each pair of poi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07920" indent="-4363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(7, 2) and (4, -3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07920" indent="-4363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宋体"/>
              </a:rPr>
              <a:t>(8, 2) and (-8, 6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verage Rate of Cha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  <a:ea typeface="宋体"/>
              </a:rPr>
              <a:t>Change in function valu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Change in x valu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=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  <a:ea typeface="宋体"/>
              </a:rPr>
              <a:t>f(b) – f(a)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b – 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verage Rate of Cha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75 # 4- Baby Girl’s Average Weigh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verage Rate of Cha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75 #6- Divorce R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athematical Mode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mathematical model is a graphical, verbal, numerical, or symbolic representation of a problem situa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verage Rate of Cha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79 #16- Exxon Mobi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erpreting Da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81 #20-U.S. Home S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  <a:ea typeface="宋体"/>
              </a:rPr>
              <a:t>Functions of several variab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宋体"/>
              </a:rPr>
              <a:t>Sometimes functions depend on more than one variabl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宋体"/>
              </a:rPr>
              <a:t>A pay as you go service is as follow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58080" indent="-2541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Phone bill = airtime + text messages + picture messag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58080" indent="-2541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M = .25a + .05t + .25p, where M is measured in dollars.  M = M(a, t, p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85600" indent="-203400"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宋体"/>
              </a:rPr>
              <a:t>airtime = 25 cents per minut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85600" indent="-203400"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宋体"/>
              </a:rPr>
              <a:t>text messages = 5 cents eac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85600" indent="-203400"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宋体"/>
              </a:rPr>
              <a:t>picture messaging = 25 cents eac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xplain what M(300,15,8) means and find its valu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5"/>
          <p:cNvSpPr/>
          <p:nvPr/>
        </p:nvSpPr>
        <p:spPr>
          <a:xfrm>
            <a:off x="838080" y="3505320"/>
            <a:ext cx="2819520" cy="2286000"/>
          </a:xfrm>
          <a:prstGeom prst="rect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  <a:ea typeface="宋体"/>
              </a:rPr>
              <a:t>Borrowing mone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If you borrow P dollars at a monthly interest rate of r (as a decimal) and want to pay off the loan in t months, then the monthly paym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  <a:ea typeface="宋体"/>
              </a:rPr>
              <a:t>M(P, r, t)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in dollars is calculated us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P = amount borrowe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r = monthly interest rate, as a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     decima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t = number of month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M = monthly pay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6" name="Object 4"/>
          <p:cNvGraphicFramePr/>
          <p:nvPr/>
        </p:nvGraphicFramePr>
        <p:xfrm>
          <a:off x="838080" y="3809880"/>
          <a:ext cx="236232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23623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What does M(6000, .035, 60) mean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Find the monthly paym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宋体"/>
              </a:rPr>
              <a:t>Suppose we borrow $5600 with a monthly interest rate of .825% and want to pay the loan off in 4 year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81 #21-22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ving Equa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mperature Probl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age 83 #33-36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86 #47-4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Title 3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.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wo-Variable Da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rdered P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omai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n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- Page 17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5. Teacher Salary Comparis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ver 60% of men not in the teaching profession earn a higher salary than men who are teachers. The table shows how much more money the average college-educated male non-teacher makes as compared to the average male teacher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656240" y="1219320"/>
          <a:ext cx="4038480" cy="4059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ercent 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arned by Non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achers 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pared 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ac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.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.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3.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6.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7.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0.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2" name="TextBox 8"/>
          <p:cNvSpPr/>
          <p:nvPr/>
        </p:nvSpPr>
        <p:spPr>
          <a:xfrm>
            <a:off x="4572000" y="548640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ource: www.nea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r example, in 1990 male non-teac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de 37.5% more than male teachers on ave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omain and Ra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宋体"/>
              </a:rPr>
              <a:t>Domain- the input valu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In an (x, y) situation, these are the “x” values.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The domain is the set of values that are plugged into a function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When it is limited to values that make sense in the real world it is called the practical domai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宋体"/>
              </a:rPr>
              <a:t>Range- the output valu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In an (x, y) situation, these are the “y” values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The range is the set of solutions we get from plugging the domain values into a funct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When it is limited to values that make sense in the real world it is called the practical domai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te the Domain and the Ran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2, 3), (-3, 7), (8,3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athering Data from graph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02 #1-6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03 #16 Cell Phone Subscrib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04-105 #18-22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Title 3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.5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22 #2, 3, 6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25 #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32 #27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Title 3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.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verse Func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function f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-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s the notation whose inputs are the outputs of f and whose outputs are the inputs of f.   (switch the domain and rang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49 #4, 5, 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ge 151 #17, 18, 2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- Page 17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. Describe the trend observed in these dat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. Why was there such a big jump in the percentage of non-teachers who earn a higher salary than teachers from 1990 to 2000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. What does the –3.6% in 1940 indicate about salaries of male teacher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hapter 1 in Review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roble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57 #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59 #4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61 #7, 8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62 #1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63 #11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65 #13, 14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68 #2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69 #23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70 #24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73 #27-29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ge 174 #31, 32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- Page 19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8.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Super Bowl Ticket Pr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table shows the price of a Super Bowl ticket for selected Super Bowl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656240" y="1770120"/>
          <a:ext cx="4038480" cy="3978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per Bowl Tic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 (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 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 (10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V (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X (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XV (2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1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XX (3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XXV (3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3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L (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$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8" name="TextBox 6"/>
          <p:cNvSpPr/>
          <p:nvPr/>
        </p:nvSpPr>
        <p:spPr>
          <a:xfrm>
            <a:off x="4724280" y="59436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Source: www.superbowl.com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. Describe the trend seen in these data. Are prices increasing or decreasing over time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. Compare the difference in ticket face value from one year to the next. What patterns do you notice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.  Predict the face value of a ticket for the 6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Super Bow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3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.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unction Not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 = f(x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put (independent variabl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utput (dependent variabl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unc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relation is a function if each input value has exactly one output valu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1:09:26Z</dcterms:created>
  <dc:creator>Preferred Customer</dc:creator>
  <dc:description/>
  <dc:language>en-US</dc:language>
  <cp:lastModifiedBy>Preferred Customer</cp:lastModifiedBy>
  <dcterms:modified xsi:type="dcterms:W3CDTF">2009-09-01T03:06:23Z</dcterms:modified>
  <cp:revision>16</cp:revision>
  <dc:subject/>
  <dc:title>1.1 Mathematical Modeling</dc:title>
</cp:coreProperties>
</file>